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763A-3B77-4A76-84BF-854511951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F1B5-E06C-4A54-8605-F871ABF2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1C47-3013-4E37-B54D-CD7966989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55C6-AE13-4954-B471-DD86A6B61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D5D3-0976-4D9D-8376-C4ECDB56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58A9-AF53-412B-9F16-60F2D7DB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2AF2-9DB0-4280-BCB8-EBAE6FE7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CF8B-016C-4C91-B89D-29DC4EC7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AD73-5212-42E3-B7EC-53D8446B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9B0A-AAF7-40F0-9744-215C88E2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9282-B864-43F7-8FED-7A3A4199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BEA9-259E-41C9-B1F4-DA2B0184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B34D-8FBE-4B98-809B-3DAF8135C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webtrain.com.au/enrol/edandtrain.html" TargetMode="External"/><Relationship Id="rId3" Type="http://schemas.openxmlformats.org/officeDocument/2006/relationships/hyperlink" Target="http://www.webtrain.com.au/enrol/sales.html" TargetMode="External"/><Relationship Id="rId4" Type="http://schemas.openxmlformats.org/officeDocument/2006/relationships/hyperlink" Target="http://www.webtrain.com.au/enrol/pdtutors.html" TargetMode="External"/><Relationship Id="rId5" Type="http://schemas.openxmlformats.org/officeDocument/2006/relationships/hyperlink" Target="http://www.webtrain.com.au/enrol/pddev.html" TargetMode="External"/><Relationship Id="rId6" Type="http://schemas.openxmlformats.org/officeDocument/2006/relationships/hyperlink" Target="http://www.webtrain.com.au/enrol/implement.html" TargetMode="External"/><Relationship Id="rId7" Type="http://schemas.openxmlformats.org/officeDocument/2006/relationships/hyperlink" Target="http://www.webtrain.com.au/enrol/resdev.html" TargetMode="External"/><Relationship Id="rId8" Type="http://schemas.openxmlformats.org/officeDocument/2006/relationships/hyperlink" Target="http://www.webtrain.com.au/enrol/projman.html" TargetMode="External"/><Relationship Id="rId9" Type="http://schemas.openxmlformats.org/officeDocument/2006/relationships/hyperlink" Target="http://www.webtrain.com.au/enrol/instdes.html" TargetMode="External"/><Relationship Id="rId10" Type="http://schemas.openxmlformats.org/officeDocument/2006/relationships/image" Target="../media/image2.gif"/><Relationship Id="rId1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cc2.webtrain.com.au/" TargetMode="External"/><Relationship Id="rId3" Type="http://schemas.openxmlformats.org/officeDocument/2006/relationships/hyperlink" Target="http://rcc1.webtrain.com.au/" TargetMode="External"/><Relationship Id="rId4" Type="http://schemas.openxmlformats.org/officeDocument/2006/relationships/hyperlink" Target="http://rcc5.webtrain.com.au/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916360" y="1197000"/>
            <a:ext cx="2813040" cy="4537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VERINA COMMUNITY COLLEGE ONLINE LEARNING CENT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by Debby Priest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43280" y="1197000"/>
            <a:ext cx="3163680" cy="51116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 Bells and Whist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online training does not come with any fancy bells and whistles it is very much a learning environ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udent must read all material prior to attempting tasks and assessmen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aterial is print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comments have been positive to this form of learning as they feel they have achieved a lot by the end of their train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43280" y="1413000"/>
            <a:ext cx="2351160" cy="3798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s control their learn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work is submitted to a tutor designated by the Riverina Community Colle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receive feedback from this tu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t via an automatic marking sys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can contact their Tutor or the Head of Course at any time for support and as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log on at any time and spend five minutes or hours wor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771640" y="1484280"/>
            <a:ext cx="2899080" cy="46814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elve Mon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ate we have enrolled over 175 people in Certificate IV Workplace and Assessment alone (12 months cour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5 students in other programs ranging from 3 months to 12 months d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to use this media for traineeships in 200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213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want more information please don’t hesitate to call me 0269217663 or e-mail debbie@rcc.nsw.edu.au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8728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14256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22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26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916360" y="1773360"/>
            <a:ext cx="2538360" cy="4103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Webtrai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bTrain Services P/L creates Internet based Learning Management Systems using the WebTrain language. The WebTrain language was specifically built for education and training outcomes for the WWW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04000" y="476280"/>
            <a:ext cx="16527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43280" y="1125360"/>
            <a:ext cx="2986200" cy="4824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Train Services Pty. Ltd. offers products and  service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 following areas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nline education and training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oftware products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rofessional development for online Tutors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rofessional development for online resource developers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mplementation of competencies in the workplace</a:t>
            </a:r>
            <a:br>
              <a:rPr sz="20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Resource development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roject management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Online instructional design consultancy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7236000" y="260280"/>
            <a:ext cx="148896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132000" y="1197000"/>
            <a:ext cx="3281400" cy="5300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verina’s Online Pr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cate I to IV Retail Oper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cate II and III Busi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cate II Hospit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cate IV Workplace Assessment &amp; Trai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cate IV Business/Frontl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cate II Information Technology Applic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59280" y="1557360"/>
            <a:ext cx="2808000" cy="4535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41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cate III OH&amp;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Cour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rical Assi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Receptionist &amp; Secre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Termin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 the Workfo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771640" y="1628640"/>
            <a:ext cx="2808360" cy="4537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he students ge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768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cate IV Workplace Assessment &amp; Training 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cc2.webtrain.com.a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veloped by Debby Pri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cate II Information Technology Applications 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rcc1.webtrain.com.a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developed by Debby Priest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cate IV Business/Frontline Management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rcc5.webtrain.com.a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purchased from Web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enter these site by using the follow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name: practice   Password: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59280" y="1557360"/>
            <a:ext cx="2985840" cy="4824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he Tutor Get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41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IV Workplace Assessment &amp; Training  http://rcc2.webtrain.com.au developed by Debby Pri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II Information Technology Applications  http://rcc1.webtrain.com.au (developed by Debby Priest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IV Business/Frontline Management http://rcc5.webtrain.com.au (purchased from WebTra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as a tutor is by using the follow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name: tutor   Password: tu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132000" y="1557360"/>
            <a:ext cx="3030840" cy="4896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T FORU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verina uses Mc2Community for our chat sessions. Usually held on a fortnightly to monthly bas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Victorian Community provider and is free to ac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a separate chat room for each cour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rooms are secure and can only be accessed by invitation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mc2.vicnet.net.au/umt/communities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987640" y="1413000"/>
            <a:ext cx="2941560" cy="47527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students access cours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2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hree ways students can access their material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our Web Page www.rcc.nsw.edu.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choosing training menu  then  lo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the Webtain home page www.webtrain.com.au then scrolling through login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ly using the http:// address for their course e.g. http://rcc2.nsw.edu.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tudents receive a unique Username and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3T01:11:42Z</dcterms:created>
  <dc:creator>debby priest</dc:creator>
  <dc:description/>
  <dc:language>en-US</dc:language>
  <cp:lastModifiedBy>debby priest</cp:lastModifiedBy>
  <dcterms:modified xsi:type="dcterms:W3CDTF">2004-11-13T01:46:37Z</dcterms:modified>
  <cp:revision>3</cp:revision>
  <dc:subject/>
  <dc:title>Slide 1</dc:title>
</cp:coreProperties>
</file>